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wmf" ContentType="image/x-wmf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969948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4016520" y="969948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364F882-E5C4-4BC2-889D-03E471071441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検証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英語版は学習辞書の編集に利用され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言語研究、言語教育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2F991FE-9014-4E1A-8357-1E4455BCCCC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げんせん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AB6C78B-1D3A-4116-B504-89D1737043C4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辞典に入れる項目に関する判断には、特に評価の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というカテゴリーの場合に、揺れがあるためだと考えら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1386D74-BB63-4844-B5C6-6296A7C5004C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CAF8CA8-26EA-45FD-9666-72CBF8CF5C06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4CB-4C82-4E4E-849B-6F4F3FE6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1D5-8B46-43B0-80F9-54BBDDA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D31-8210-4BC8-B01B-081189E9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C78-3AFF-4ED0-9B8D-C9D80F87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85E6-19E3-4409-B48E-D4A0D71C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16B-673F-4D18-99F6-18EF9B41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B7D3-D1FB-4D4F-AF2E-6B9D60E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DB5-2A57-4AB2-89BA-85F38EF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F01E-C965-4920-A50C-3E05396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0FB-29BB-4BB2-905D-BCAF62E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598-5189-4373-B35F-512A22C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57A-AD0D-4210-87C9-101D3650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980F-7F0E-45F4-A847-AF753DB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A65A-E6D9-4558-9714-D729674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DB0-344E-457A-BF1C-555EDA9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BDC-7901-41E7-B408-6262670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34D-7262-4A03-8282-2906352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6B7-FEDB-4998-9EFD-CBD3C5E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078-7461-4842-8D31-5050D71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B8A-D7CB-4169-A3B8-18273D3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22E-3460-4132-8F48-07EAB476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C03-7C03-4EAD-9B64-B9F6153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FB8-C466-4F18-8D46-0C178A4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124-9BAF-46F8-AEB5-A4613A6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37B-7695-4E34-AE53-20848241C61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95C-39AD-4F1C-898A-B2246A03117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acky.sslmit.unibo.it/" TargetMode="External"/><Relationship Id="rId2" Type="http://schemas.openxmlformats.org/officeDocument/2006/relationships/hyperlink" Target="http://chasen.naist.jp/hiki/ChaSen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Japanese word sketches: towards a new ver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rena Srdanov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irena.srdanovic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＠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C8A-67E6-429B-85FF-9E6186EB445A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テキスト ボックス 7"/>
          <p:cNvGrpSpPr/>
          <p:nvPr/>
        </p:nvGrpSpPr>
        <p:grpSpPr>
          <a:xfrm>
            <a:off x="509760" y="1371600"/>
            <a:ext cx="3300120" cy="536400"/>
            <a:chOff x="509760" y="1371600"/>
            <a:chExt cx="3300120" cy="536400"/>
          </a:xfrm>
        </p:grpSpPr>
        <p:pic>
          <p:nvPicPr>
            <p:cNvPr id="146" name="テキスト ボックス 7" descr=""/>
            <p:cNvPicPr/>
            <p:nvPr/>
          </p:nvPicPr>
          <p:blipFill>
            <a:blip r:embed="rId1"/>
            <a:stretch/>
          </p:blipFill>
          <p:spPr>
            <a:xfrm>
              <a:off x="509760" y="1371600"/>
              <a:ext cx="3300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72040" y="1455840"/>
              <a:ext cx="31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Adjectives Ai/Ana, Adver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vered collocational relations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2133720"/>
          <a:ext cx="7118640" cy="44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711864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9C4-B39F-44E2-A5B1-C2E8C40EFD8F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左カーブ矢印 12"/>
          <p:cNvGrpSpPr/>
          <p:nvPr/>
        </p:nvGrpSpPr>
        <p:grpSpPr>
          <a:xfrm>
            <a:off x="4267080" y="2438280"/>
            <a:ext cx="1335240" cy="1905120"/>
            <a:chOff x="4267080" y="2438280"/>
            <a:chExt cx="1335240" cy="1905120"/>
          </a:xfrm>
        </p:grpSpPr>
        <p:pic>
          <p:nvPicPr>
            <p:cNvPr id="153" name="左カーブ矢印 12" descr=""/>
            <p:cNvPicPr/>
            <p:nvPr/>
          </p:nvPicPr>
          <p:blipFill>
            <a:blip r:embed="rId1"/>
            <a:stretch/>
          </p:blipFill>
          <p:spPr>
            <a:xfrm>
              <a:off x="4267080" y="2438280"/>
              <a:ext cx="1335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348440" y="2513880"/>
              <a:ext cx="117324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umber of types &amp; tokens  cover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133720"/>
          <a:ext cx="3962520" cy="150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39625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828800" y="4343400"/>
          <a:ext cx="6029280" cy="1608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4343400"/>
                    <a:ext cx="60292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コンテンツ プレースホルダ 2"/>
          <p:cNvSpPr/>
          <p:nvPr/>
        </p:nvSpPr>
        <p:spPr>
          <a:xfrm>
            <a:off x="485640" y="1676520"/>
            <a:ext cx="80870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 1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：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Comparing with collocational dictionary for language learn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“</a:t>
            </a:r>
            <a:r>
              <a:rPr b="0" i="1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ihongo hyougen katsuyou jiten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”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（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Himeno 2004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10 entries for verbs and adjectives –na (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 2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：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SketchE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is word a good candidate for inclusion in the headword’s collocation-dictionary entry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ouns, adjectives, verbs (2:1:1 rat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（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42items×20 collocations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スライド番号プレースホルダ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CB7F-D2F0-4B5D-B8CF-46D1A005D469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5216400"/>
            <a:ext cx="3429000" cy="642600"/>
            <a:chOff x="5410080" y="5216400"/>
            <a:chExt cx="3429000" cy="642600"/>
          </a:xfrm>
        </p:grpSpPr>
        <p:sp>
          <p:nvSpPr>
            <p:cNvPr id="164" name=""/>
            <p:cNvSpPr/>
            <p:nvPr/>
          </p:nvSpPr>
          <p:spPr>
            <a:xfrm>
              <a:off x="5638680" y="5216400"/>
              <a:ext cx="3200400" cy="642600"/>
            </a:xfrm>
            <a:prstGeom prst="rect">
              <a:avLst/>
            </a:prstGeom>
            <a:noFill/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ru verbs as nouns N.V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a adjectives as nouns N.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10080" y="5521320"/>
              <a:ext cx="228600" cy="76320"/>
            </a:xfrm>
            <a:prstGeom prst="line">
              <a:avLst/>
            </a:prstGeom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285840" y="2100240"/>
            <a:ext cx="9072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22240" indent="-190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We can extract much more types of collocational relations by SkE then the dictionary covers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190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- we can decide on the most salient collocations</a:t>
            </a:r>
            <a:br>
              <a:rPr sz="25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ctionary: covers only collocations of verbs and adjectives –na (An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ctionary (verbs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un +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ga, wo, to, n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+ ve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k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erb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un +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ga, wo, to, ni, de, made, kara, h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… + verb, coordinate relations with other verbs, collocating with adverbs, bound verb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Most salient &amp; frequent collocations in Jap word sketches not necessarily present in the dictionary (</a:t>
            </a:r>
            <a:r>
              <a:rPr b="0" i="1" lang="ja-JP" sz="1900" spc="-1" strike="noStrike">
                <a:solidFill>
                  <a:srgbClr val="000000"/>
                </a:solidFill>
                <a:latin typeface="Tahoma"/>
              </a:rPr>
              <a:t>kasukana kioku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 etc.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3E03-F0F0-48AA-A887-3A2051025606}" type="slidenum">
              <a:rPr b="0" lang="ja-JP" sz="1400" spc="-1" strike="noStrike">
                <a:solidFill>
                  <a:srgbClr val="1d4577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ults of the Evaluation 1 (par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3295-C60C-4D28-934D-200334A8D1E6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テキスト ボックス 11"/>
          <p:cNvSpPr/>
          <p:nvPr/>
        </p:nvSpPr>
        <p:spPr>
          <a:xfrm>
            <a:off x="7381800" y="2286000"/>
            <a:ext cx="1609920" cy="11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avarage for high freq. words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：</a:t>
            </a:r>
            <a:br>
              <a:rPr sz="1800"/>
            </a:br>
            <a:r>
              <a:rPr b="1" lang="ja-JP" sz="1600" spc="-1" strike="noStrike" u="sng">
                <a:solidFill>
                  <a:srgbClr val="d99694"/>
                </a:solidFill>
                <a:uFillTx/>
                <a:latin typeface="Rockwell"/>
                <a:ea typeface="HG明朝B"/>
              </a:rPr>
              <a:t>Good 76.3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Results of the Evaluation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2098800"/>
          <a:ext cx="70866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98800"/>
                    <a:ext cx="70866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5168880"/>
          <a:ext cx="4724280" cy="92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68880"/>
                    <a:ext cx="47242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Problem of “incomplete collocations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Good but not complete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Comes from detailed ChaSen tag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researcher: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kenkyu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s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research + 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girl: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onna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no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woman + poss +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1148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22d"/>
                </a:solidFill>
                <a:latin typeface="Century"/>
                <a:ea typeface="ＭＳ 明朝"/>
              </a:rPr>
              <a:t>extensive research ≠  extensive resear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57200" y="58672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22d"/>
                </a:solidFill>
                <a:latin typeface="Century"/>
                <a:ea typeface="ＭＳ 明朝"/>
              </a:rPr>
              <a:t>little girl ≠ little wo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648320"/>
            <a:ext cx="3809880" cy="15192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 solve the problem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ry UniDic/MeCa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ome misses in the current 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uru” verbs don’t appear as collo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here other types of verbs appear, since they are tagged as nouns (“N.V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for example, Adv + Verb doesn’t cover “suru” ver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mpound nouns are not covered in the current gramrel (N+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4881600"/>
            <a:ext cx="3809880" cy="15192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ver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rpus &amp; salienc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pus related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s: when the same pages (or their copies) appear a number of ti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ience related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ome collocate appears very frequently but only from one source (one web p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00400"/>
            <a:ext cx="2895480" cy="121932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 clean-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5486400"/>
            <a:ext cx="6629400" cy="13716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a way to exclu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kind of cases! Espec. rele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eb corpo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238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istant) colloc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13948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all know a word by the company it keeps” (Firs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ocation is the occurrence of two or more words within a short space of each other in a text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usually referred to 5 words at most) (Sinclai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ds that co-occur more often than chanc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: extracting pairs of correlated words (collocations) within a fixed distance of 5 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on of “distant collocation” only rec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tracting collocations interrupted by a string or tw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within a short di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rupted collocations”, “discontinuous collocations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5791320"/>
            <a:ext cx="83818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 u="sng">
                <a:solidFill>
                  <a:srgbClr val="00cc00"/>
                </a:solidFill>
                <a:uFillTx/>
                <a:latin typeface="Times New Roman"/>
              </a:rPr>
              <a:t>Kitto 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Tanaka-san no otousan wa ashita ka asatte kuru </a:t>
            </a:r>
            <a:r>
              <a:rPr b="0" i="1" lang="ja-JP" sz="2400" spc="-1" strike="noStrike" u="sng">
                <a:solidFill>
                  <a:srgbClr val="00cc00"/>
                </a:solidFill>
                <a:uFillTx/>
                <a:latin typeface="Times New Roman"/>
              </a:rPr>
              <a:t>hazu da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00"/>
                </a:solidFill>
                <a:latin typeface="Times New Roman"/>
              </a:rPr>
              <a:t>Adverb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-----------------------------------------------------</a:t>
            </a:r>
            <a:r>
              <a:rPr b="0" lang="ja-JP" sz="2400" spc="-1" strike="noStrike">
                <a:solidFill>
                  <a:srgbClr val="00cc00"/>
                </a:solidFill>
                <a:latin typeface="Times New Roman"/>
              </a:rPr>
              <a:t>Modality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コンテンツ プレースホルダ 2"/>
          <p:cNvSpPr/>
          <p:nvPr/>
        </p:nvSpPr>
        <p:spPr>
          <a:xfrm>
            <a:off x="76320" y="190512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Adverbs + distant col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final particl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スライド番号プレースホルダ 4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48DC-5A5F-4E16-AB48-5BE5FF032173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右中かっこ 5"/>
          <p:cNvSpPr/>
          <p:nvPr/>
        </p:nvSpPr>
        <p:spPr>
          <a:xfrm>
            <a:off x="4014720" y="2000160"/>
            <a:ext cx="633600" cy="1285920"/>
          </a:xfrm>
          <a:custGeom>
            <a:avLst/>
            <a:gdLst>
              <a:gd name="textAreaLeft" fmla="*/ 0 w 633600"/>
              <a:gd name="textAreaRight" fmla="*/ 228600 w 633600"/>
              <a:gd name="textAreaTop" fmla="*/ 20160 h 1285920"/>
              <a:gd name="textAreaBottom" fmla="*/ 126576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0"/>
                  <a:pt x="10800" y="1100"/>
                </a:cubicBezTo>
                <a:lnTo>
                  <a:pt x="10800" y="10580"/>
                </a:lnTo>
                <a:cubicBezTo>
                  <a:pt x="10800" y="11130"/>
                  <a:pt x="16200" y="11680"/>
                  <a:pt x="21600" y="11680"/>
                </a:cubicBezTo>
                <a:cubicBezTo>
                  <a:pt x="16200" y="11680"/>
                  <a:pt x="10800" y="12230"/>
                  <a:pt x="10800" y="12780"/>
                </a:cubicBezTo>
                <a:lnTo>
                  <a:pt x="10800" y="20500"/>
                </a:lnTo>
                <a:cubicBezTo>
                  <a:pt x="10800" y="2105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テキスト ボックス 7"/>
          <p:cNvSpPr/>
          <p:nvPr/>
        </p:nvSpPr>
        <p:spPr>
          <a:xfrm>
            <a:off x="4430880" y="2219400"/>
            <a:ext cx="5060520" cy="916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Recognized by Cha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→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simply add new relations into the gramre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xtracting Adverbs and Clause-Final Modality Distant Col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920" y="3733920"/>
            <a:ext cx="4876560" cy="1504080"/>
            <a:chOff x="4876920" y="3733920"/>
            <a:chExt cx="4876560" cy="1504080"/>
          </a:xfrm>
        </p:grpSpPr>
        <p:sp>
          <p:nvSpPr>
            <p:cNvPr id="198" name=""/>
            <p:cNvSpPr/>
            <p:nvPr/>
          </p:nvSpPr>
          <p:spPr>
            <a:xfrm>
              <a:off x="4876920" y="3733920"/>
              <a:ext cx="4876560" cy="1371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82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2200" y="3760920"/>
              <a:ext cx="23623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 available in Cha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               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 4 ste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コンテンツ プレースホルダ 2"/>
          <p:cNvSpPr/>
          <p:nvPr/>
        </p:nvSpPr>
        <p:spPr>
          <a:xfrm>
            <a:off x="76320" y="36576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Adverbs + (distant) modality forms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コンテンツ プレースホルダ 2"/>
          <p:cNvSpPr/>
          <p:nvPr/>
        </p:nvSpPr>
        <p:spPr>
          <a:xfrm>
            <a:off x="0" y="4724280"/>
            <a:ext cx="8077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Create comprehensive list of modality forms and var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Define ChaSen units form modality forms and create a new “Mod”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Retag the corpus (add “Mod” t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Add a new relation into the Gramrel file </a:t>
            </a: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ＭＳ Ｐゴシック"/>
              </a:rPr>
              <a:t>(Srdanovic et al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Japanese word sketches (intr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p gramrel &amp; ChaSen tagset specif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valu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mparing to Jap collocational dictio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ketchEval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ext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ub-corpus &amp; distant col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eb corpus vs. balanced corp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55C-5928-486E-84B3-2773FC1881FE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Picture 2"/>
          <p:cNvGraphicFramePr/>
          <p:nvPr/>
        </p:nvGraphicFramePr>
        <p:xfrm>
          <a:off x="706320" y="2195640"/>
          <a:ext cx="7147080" cy="113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2195640"/>
                    <a:ext cx="714708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コンテンツ プレースホルダ 2"/>
          <p:cNvSpPr/>
          <p:nvPr/>
        </p:nvSpPr>
        <p:spPr>
          <a:xfrm>
            <a:off x="428760" y="3548160"/>
            <a:ext cx="8715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Variations (inflection, style, orthography: kanji or k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kamoshiremasen, kamoshirenai, kamoshiren, kamoshir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Combined modality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toomou  kamoshirenai, toomou no kamoshirenai, kamoshirenai n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umber of modality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Basic modality form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Combined modality form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Variation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26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: very good results! 93 – 96% of accura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ality forms and vari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C9C-867D-438C-9199-5F35FA76E3EA}" type="slidenum">
              <a:rPr b="0" lang="ja-JP" sz="1200" spc="-1" strike="noStrike">
                <a:solidFill>
                  <a:srgbClr val="000000"/>
                </a:solidFill>
                <a:latin typeface="Century Schoolbook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6337440" cy="3748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0" y="2239920"/>
            <a:ext cx="1800360" cy="5032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0" y="2205000"/>
            <a:ext cx="2843280" cy="7192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771640" y="2060640"/>
            <a:ext cx="5915160" cy="916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Specialized cor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（</a:t>
            </a:r>
            <a:r>
              <a:rPr b="1" lang="en-US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White papers, NLP articles, natural science textbooks</a:t>
            </a:r>
            <a:r>
              <a:rPr b="1" lang="zh-CN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5013360"/>
            <a:ext cx="4138560" cy="287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043160" y="4800600"/>
            <a:ext cx="348012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Different from other cor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（</a:t>
            </a:r>
            <a:r>
              <a:rPr b="1" lang="en-US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Informal spoken corpus</a:t>
            </a:r>
            <a:r>
              <a:rPr b="1" lang="zh-CN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971800"/>
            <a:ext cx="2484360" cy="357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8120" y="2819520"/>
            <a:ext cx="5373720" cy="916920"/>
          </a:xfrm>
          <a:prstGeom prst="rect">
            <a:avLst/>
          </a:prstGeom>
          <a:solidFill>
            <a:srgbClr val="777777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Formal conversation 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(Formal conversation corpus, Yahoo Chiebukuro</a:t>
            </a: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4114800"/>
            <a:ext cx="2124000" cy="431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0" y="4114800"/>
            <a:ext cx="2971800" cy="865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998800" y="4272120"/>
            <a:ext cx="568800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f82a"/>
                </a:solidFill>
                <a:latin typeface="Century Schoolbook"/>
                <a:ea typeface="ＪＳＰゴシック"/>
              </a:rPr>
              <a:t>Textbooks data (Kudo data is also very similar in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492280" y="3559320"/>
            <a:ext cx="665172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entury Schoolbook"/>
                <a:ea typeface="ＪＳＰゴシック"/>
              </a:rPr>
              <a:t>Written corpora (large-scale web data, balanced corpus, newspap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3429000"/>
            <a:ext cx="1908000" cy="431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3357720"/>
            <a:ext cx="2411280" cy="647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pus classification based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dverb distribut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224" name="正方形/長方形 4"/>
          <p:cNvSpPr/>
          <p:nvPr/>
        </p:nvSpPr>
        <p:spPr>
          <a:xfrm>
            <a:off x="71280" y="564372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HG明朝B"/>
              </a:rPr>
              <a:t>EXP &amp; NEC are most frequent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Rockwell"/>
                <a:ea typeface="HG明朝B"/>
              </a:rPr>
              <a:t>　→</a:t>
            </a:r>
            <a:r>
              <a:rPr b="0" lang="zh-CN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HG明朝B"/>
              </a:rPr>
              <a:t>EXP &amp; NEC have functionally greater priority then CON &amp; POSS in Japanese language communication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(Srdanovic et al 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スライド番号プレースホルダ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772-1AAC-4767-A098-AD546E72F117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グループ化 43"/>
          <p:cNvGrpSpPr/>
          <p:nvPr/>
        </p:nvGrpSpPr>
        <p:grpSpPr>
          <a:xfrm>
            <a:off x="1643040" y="1714680"/>
            <a:ext cx="5643720" cy="3929040"/>
            <a:chOff x="1643040" y="1714680"/>
            <a:chExt cx="5643720" cy="3929040"/>
          </a:xfrm>
        </p:grpSpPr>
        <p:sp>
          <p:nvSpPr>
            <p:cNvPr id="227" name="角丸四角形 38"/>
            <p:cNvSpPr/>
            <p:nvPr/>
          </p:nvSpPr>
          <p:spPr>
            <a:xfrm>
              <a:off x="2428920" y="5429520"/>
              <a:ext cx="642960" cy="214200"/>
            </a:xfrm>
            <a:prstGeom prst="roundRect">
              <a:avLst>
                <a:gd name="adj" fmla="val 16667"/>
              </a:avLst>
            </a:prstGeom>
            <a:solidFill>
              <a:srgbClr val="bfb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グループ化 42"/>
            <p:cNvGrpSpPr/>
            <p:nvPr/>
          </p:nvGrpSpPr>
          <p:grpSpPr>
            <a:xfrm>
              <a:off x="1643040" y="1714680"/>
              <a:ext cx="5643720" cy="3214800"/>
              <a:chOff x="1643040" y="1714680"/>
              <a:chExt cx="5643720" cy="3214800"/>
            </a:xfrm>
          </p:grpSpPr>
          <p:sp>
            <p:nvSpPr>
              <p:cNvPr id="229" name="角丸四角形 23"/>
              <p:cNvSpPr/>
              <p:nvPr/>
            </p:nvSpPr>
            <p:spPr>
              <a:xfrm>
                <a:off x="1643040" y="171468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角丸四角形 24"/>
              <p:cNvSpPr/>
              <p:nvPr/>
            </p:nvSpPr>
            <p:spPr>
              <a:xfrm>
                <a:off x="3500280" y="2143080"/>
                <a:ext cx="28576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角丸四角形 25"/>
              <p:cNvSpPr/>
              <p:nvPr/>
            </p:nvSpPr>
            <p:spPr>
              <a:xfrm>
                <a:off x="4071960" y="2357640"/>
                <a:ext cx="16430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角丸四角形 26"/>
              <p:cNvSpPr/>
              <p:nvPr/>
            </p:nvSpPr>
            <p:spPr>
              <a:xfrm>
                <a:off x="1714320" y="2857680"/>
                <a:ext cx="26431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角丸四角形 27"/>
              <p:cNvSpPr/>
              <p:nvPr/>
            </p:nvSpPr>
            <p:spPr>
              <a:xfrm>
                <a:off x="1714320" y="3786480"/>
                <a:ext cx="55724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角丸四角形 28"/>
              <p:cNvSpPr/>
              <p:nvPr/>
            </p:nvSpPr>
            <p:spPr>
              <a:xfrm>
                <a:off x="4857840" y="1714680"/>
                <a:ext cx="10000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角丸四角形 29"/>
              <p:cNvSpPr/>
              <p:nvPr/>
            </p:nvSpPr>
            <p:spPr>
              <a:xfrm>
                <a:off x="5357880" y="1928880"/>
                <a:ext cx="10000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角丸四角形 30"/>
              <p:cNvSpPr/>
              <p:nvPr/>
            </p:nvSpPr>
            <p:spPr>
              <a:xfrm>
                <a:off x="1714320" y="235764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角丸四角形 31"/>
              <p:cNvSpPr/>
              <p:nvPr/>
            </p:nvSpPr>
            <p:spPr>
              <a:xfrm>
                <a:off x="1714320" y="328644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角丸四角形 32"/>
              <p:cNvSpPr/>
              <p:nvPr/>
            </p:nvSpPr>
            <p:spPr>
              <a:xfrm>
                <a:off x="4071960" y="3286440"/>
                <a:ext cx="7142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角丸四角形 33"/>
              <p:cNvSpPr/>
              <p:nvPr/>
            </p:nvSpPr>
            <p:spPr>
              <a:xfrm>
                <a:off x="4214880" y="357228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角丸四角形 34"/>
              <p:cNvSpPr/>
              <p:nvPr/>
            </p:nvSpPr>
            <p:spPr>
              <a:xfrm>
                <a:off x="5214960" y="2857680"/>
                <a:ext cx="9284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角丸四角形 35"/>
              <p:cNvSpPr/>
              <p:nvPr/>
            </p:nvSpPr>
            <p:spPr>
              <a:xfrm>
                <a:off x="4214880" y="264348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角丸四角形 36"/>
              <p:cNvSpPr/>
              <p:nvPr/>
            </p:nvSpPr>
            <p:spPr>
              <a:xfrm>
                <a:off x="3857760" y="421524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角丸四角形 37"/>
              <p:cNvSpPr/>
              <p:nvPr/>
            </p:nvSpPr>
            <p:spPr>
              <a:xfrm>
                <a:off x="1714320" y="4715280"/>
                <a:ext cx="642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角丸四角形 39"/>
              <p:cNvSpPr/>
              <p:nvPr/>
            </p:nvSpPr>
            <p:spPr>
              <a:xfrm>
                <a:off x="3143160" y="4715280"/>
                <a:ext cx="642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グループ化 41"/>
          <p:cNvGrpSpPr/>
          <p:nvPr/>
        </p:nvGrpSpPr>
        <p:grpSpPr>
          <a:xfrm>
            <a:off x="1714680" y="1428840"/>
            <a:ext cx="5072040" cy="3929040"/>
            <a:chOff x="1714680" y="1428840"/>
            <a:chExt cx="5072040" cy="3929040"/>
          </a:xfrm>
        </p:grpSpPr>
        <p:grpSp>
          <p:nvGrpSpPr>
            <p:cNvPr id="246" name="グループ化 22"/>
            <p:cNvGrpSpPr/>
            <p:nvPr/>
          </p:nvGrpSpPr>
          <p:grpSpPr>
            <a:xfrm>
              <a:off x="1714680" y="1428840"/>
              <a:ext cx="5072040" cy="3929040"/>
              <a:chOff x="1714680" y="1428840"/>
              <a:chExt cx="5072040" cy="3929040"/>
            </a:xfrm>
          </p:grpSpPr>
          <p:sp>
            <p:nvSpPr>
              <p:cNvPr id="247" name="角丸四角形 8"/>
              <p:cNvSpPr/>
              <p:nvPr/>
            </p:nvSpPr>
            <p:spPr>
              <a:xfrm>
                <a:off x="1714680" y="1428840"/>
                <a:ext cx="5072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角丸四角形 9"/>
              <p:cNvSpPr/>
              <p:nvPr/>
            </p:nvSpPr>
            <p:spPr>
              <a:xfrm>
                <a:off x="1714680" y="1928880"/>
                <a:ext cx="3643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角丸四角形 10"/>
              <p:cNvSpPr/>
              <p:nvPr/>
            </p:nvSpPr>
            <p:spPr>
              <a:xfrm>
                <a:off x="1714680" y="2143080"/>
                <a:ext cx="1785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角丸四角形 11"/>
              <p:cNvSpPr/>
              <p:nvPr/>
            </p:nvSpPr>
            <p:spPr>
              <a:xfrm>
                <a:off x="3214800" y="171432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角丸四角形 12"/>
              <p:cNvSpPr/>
              <p:nvPr/>
            </p:nvSpPr>
            <p:spPr>
              <a:xfrm>
                <a:off x="2428920" y="235728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角丸四角形 13"/>
              <p:cNvSpPr/>
              <p:nvPr/>
            </p:nvSpPr>
            <p:spPr>
              <a:xfrm>
                <a:off x="1714680" y="3571920"/>
                <a:ext cx="2500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角丸四角形 14"/>
              <p:cNvSpPr/>
              <p:nvPr/>
            </p:nvSpPr>
            <p:spPr>
              <a:xfrm>
                <a:off x="1714680" y="4929480"/>
                <a:ext cx="47149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角丸四角形 15"/>
              <p:cNvSpPr/>
              <p:nvPr/>
            </p:nvSpPr>
            <p:spPr>
              <a:xfrm>
                <a:off x="4357800" y="2857680"/>
                <a:ext cx="8571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角丸四角形 16"/>
              <p:cNvSpPr/>
              <p:nvPr/>
            </p:nvSpPr>
            <p:spPr>
              <a:xfrm>
                <a:off x="2428920" y="3286080"/>
                <a:ext cx="17143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角丸四角形 17"/>
              <p:cNvSpPr/>
              <p:nvPr/>
            </p:nvSpPr>
            <p:spPr>
              <a:xfrm>
                <a:off x="5643720" y="4214880"/>
                <a:ext cx="11430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角丸四角形 18"/>
              <p:cNvSpPr/>
              <p:nvPr/>
            </p:nvSpPr>
            <p:spPr>
              <a:xfrm>
                <a:off x="4857840" y="471492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角丸四角形 19"/>
              <p:cNvSpPr/>
              <p:nvPr/>
            </p:nvSpPr>
            <p:spPr>
              <a:xfrm>
                <a:off x="5000760" y="5143680"/>
                <a:ext cx="7855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角丸四角形 20"/>
              <p:cNvSpPr/>
              <p:nvPr/>
            </p:nvSpPr>
            <p:spPr>
              <a:xfrm>
                <a:off x="1714680" y="5143680"/>
                <a:ext cx="2500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角丸四角形 40"/>
            <p:cNvSpPr/>
            <p:nvPr/>
          </p:nvSpPr>
          <p:spPr>
            <a:xfrm>
              <a:off x="2357640" y="4714920"/>
              <a:ext cx="714240" cy="214200"/>
            </a:xfrm>
            <a:prstGeom prst="roundRect">
              <a:avLst>
                <a:gd name="adj" fmla="val 16667"/>
              </a:avLst>
            </a:prstGeom>
            <a:solidFill>
              <a:srgbClr val="f685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角丸四角形 44"/>
          <p:cNvSpPr/>
          <p:nvPr/>
        </p:nvSpPr>
        <p:spPr>
          <a:xfrm>
            <a:off x="380880" y="5715000"/>
            <a:ext cx="642960" cy="35712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角丸四角形 45"/>
          <p:cNvSpPr/>
          <p:nvPr/>
        </p:nvSpPr>
        <p:spPr>
          <a:xfrm flipV="1">
            <a:off x="1219320" y="579060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cted collocations of adverbs &amp; modality forms (web corpu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857760"/>
          </a:xfrm>
          <a:prstGeom prst="rect">
            <a:avLst/>
          </a:prstGeom>
          <a:ln w="0">
            <a:noFill/>
          </a:ln>
        </p:spPr>
      </p:pic>
      <p:sp>
        <p:nvSpPr>
          <p:cNvPr id="265" name="角丸四角形 7"/>
          <p:cNvSpPr/>
          <p:nvPr/>
        </p:nvSpPr>
        <p:spPr>
          <a:xfrm>
            <a:off x="5000760" y="2500200"/>
            <a:ext cx="277164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角丸四角形 8"/>
          <p:cNvSpPr/>
          <p:nvPr/>
        </p:nvSpPr>
        <p:spPr>
          <a:xfrm>
            <a:off x="2252520" y="285768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角丸四角形 9"/>
          <p:cNvSpPr/>
          <p:nvPr/>
        </p:nvSpPr>
        <p:spPr>
          <a:xfrm>
            <a:off x="5133960" y="3500280"/>
            <a:ext cx="271476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角丸四角形 10"/>
          <p:cNvSpPr/>
          <p:nvPr/>
        </p:nvSpPr>
        <p:spPr>
          <a:xfrm>
            <a:off x="2247840" y="2714760"/>
            <a:ext cx="2857680" cy="14292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角丸四角形 11"/>
          <p:cNvSpPr/>
          <p:nvPr/>
        </p:nvSpPr>
        <p:spPr>
          <a:xfrm>
            <a:off x="7715160" y="428616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角丸四角形 12"/>
          <p:cNvSpPr/>
          <p:nvPr/>
        </p:nvSpPr>
        <p:spPr>
          <a:xfrm>
            <a:off x="6477120" y="4724280"/>
            <a:ext cx="135720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角丸四角形 15"/>
          <p:cNvSpPr/>
          <p:nvPr/>
        </p:nvSpPr>
        <p:spPr>
          <a:xfrm>
            <a:off x="3657600" y="4500720"/>
            <a:ext cx="152388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角丸四角形 16"/>
          <p:cNvSpPr/>
          <p:nvPr/>
        </p:nvSpPr>
        <p:spPr>
          <a:xfrm>
            <a:off x="2228760" y="5119560"/>
            <a:ext cx="142884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角丸四角形 6"/>
          <p:cNvSpPr/>
          <p:nvPr/>
        </p:nvSpPr>
        <p:spPr>
          <a:xfrm>
            <a:off x="3657600" y="5715000"/>
            <a:ext cx="1504800" cy="2286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角丸四角形 23"/>
          <p:cNvSpPr/>
          <p:nvPr/>
        </p:nvSpPr>
        <p:spPr>
          <a:xfrm>
            <a:off x="2209680" y="2500200"/>
            <a:ext cx="2971800" cy="21456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角丸四角形 24"/>
          <p:cNvSpPr/>
          <p:nvPr/>
        </p:nvSpPr>
        <p:spPr>
          <a:xfrm>
            <a:off x="7710480" y="2514600"/>
            <a:ext cx="1357200" cy="5335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角丸四角形 25"/>
          <p:cNvSpPr/>
          <p:nvPr/>
        </p:nvSpPr>
        <p:spPr>
          <a:xfrm>
            <a:off x="5200560" y="3900600"/>
            <a:ext cx="2571840" cy="21420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角丸四角形 26"/>
          <p:cNvSpPr/>
          <p:nvPr/>
        </p:nvSpPr>
        <p:spPr>
          <a:xfrm>
            <a:off x="2209680" y="3886200"/>
            <a:ext cx="2971800" cy="2570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角丸四角形 27"/>
          <p:cNvSpPr/>
          <p:nvPr/>
        </p:nvSpPr>
        <p:spPr>
          <a:xfrm>
            <a:off x="6419880" y="5072040"/>
            <a:ext cx="1428840" cy="3002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角丸四角形 29"/>
          <p:cNvSpPr/>
          <p:nvPr/>
        </p:nvSpPr>
        <p:spPr>
          <a:xfrm>
            <a:off x="6491160" y="2666880"/>
            <a:ext cx="135756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角丸四角形 30"/>
          <p:cNvSpPr/>
          <p:nvPr/>
        </p:nvSpPr>
        <p:spPr>
          <a:xfrm>
            <a:off x="2143080" y="3343320"/>
            <a:ext cx="1428840" cy="3715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角丸四角形 31"/>
          <p:cNvSpPr/>
          <p:nvPr/>
        </p:nvSpPr>
        <p:spPr>
          <a:xfrm>
            <a:off x="2143080" y="4071960"/>
            <a:ext cx="150012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角丸四角形 33"/>
          <p:cNvSpPr/>
          <p:nvPr/>
        </p:nvSpPr>
        <p:spPr>
          <a:xfrm>
            <a:off x="5234040" y="4729320"/>
            <a:ext cx="1319040" cy="2570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角丸四角形 34"/>
          <p:cNvSpPr/>
          <p:nvPr/>
        </p:nvSpPr>
        <p:spPr>
          <a:xfrm>
            <a:off x="7772400" y="342900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角丸四角形 35"/>
          <p:cNvSpPr/>
          <p:nvPr/>
        </p:nvSpPr>
        <p:spPr>
          <a:xfrm>
            <a:off x="3500280" y="3500280"/>
            <a:ext cx="1681200" cy="21456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角丸四角形 36"/>
          <p:cNvSpPr/>
          <p:nvPr/>
        </p:nvSpPr>
        <p:spPr>
          <a:xfrm>
            <a:off x="3686040" y="5500800"/>
            <a:ext cx="1571760" cy="21420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角丸四角形 37"/>
          <p:cNvSpPr/>
          <p:nvPr/>
        </p:nvSpPr>
        <p:spPr>
          <a:xfrm>
            <a:off x="2228760" y="5715000"/>
            <a:ext cx="1428840" cy="3049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角丸四角形 39"/>
          <p:cNvSpPr/>
          <p:nvPr/>
        </p:nvSpPr>
        <p:spPr>
          <a:xfrm>
            <a:off x="5124600" y="2714760"/>
            <a:ext cx="142848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角丸四角形 40"/>
          <p:cNvSpPr/>
          <p:nvPr/>
        </p:nvSpPr>
        <p:spPr>
          <a:xfrm>
            <a:off x="5124600" y="3124080"/>
            <a:ext cx="142848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角丸四角形 41"/>
          <p:cNvSpPr/>
          <p:nvPr/>
        </p:nvSpPr>
        <p:spPr>
          <a:xfrm>
            <a:off x="6400800" y="290988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角丸四角形 42"/>
          <p:cNvSpPr/>
          <p:nvPr/>
        </p:nvSpPr>
        <p:spPr>
          <a:xfrm>
            <a:off x="3571920" y="4114800"/>
            <a:ext cx="2981160" cy="2001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角丸四角形 43"/>
          <p:cNvSpPr/>
          <p:nvPr/>
        </p:nvSpPr>
        <p:spPr>
          <a:xfrm>
            <a:off x="7772400" y="328608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角丸四角形 44"/>
          <p:cNvSpPr/>
          <p:nvPr/>
        </p:nvSpPr>
        <p:spPr>
          <a:xfrm>
            <a:off x="7643880" y="4929120"/>
            <a:ext cx="1428840" cy="4050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角丸四角形 45"/>
          <p:cNvSpPr/>
          <p:nvPr/>
        </p:nvSpPr>
        <p:spPr>
          <a:xfrm>
            <a:off x="5257800" y="5500800"/>
            <a:ext cx="388620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角丸四角形 362"/>
          <p:cNvSpPr/>
          <p:nvPr/>
        </p:nvSpPr>
        <p:spPr>
          <a:xfrm>
            <a:off x="2233440" y="4500720"/>
            <a:ext cx="1424160" cy="2854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角丸四角形 363"/>
          <p:cNvSpPr/>
          <p:nvPr/>
        </p:nvSpPr>
        <p:spPr>
          <a:xfrm>
            <a:off x="6553080" y="3071880"/>
            <a:ext cx="129564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角丸四角形 364"/>
          <p:cNvSpPr/>
          <p:nvPr/>
        </p:nvSpPr>
        <p:spPr>
          <a:xfrm>
            <a:off x="6553080" y="571500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角丸四角形 365"/>
          <p:cNvSpPr/>
          <p:nvPr/>
        </p:nvSpPr>
        <p:spPr>
          <a:xfrm>
            <a:off x="5181480" y="2857680"/>
            <a:ext cx="1357560" cy="2854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角丸四角形 366"/>
          <p:cNvSpPr/>
          <p:nvPr/>
        </p:nvSpPr>
        <p:spPr>
          <a:xfrm>
            <a:off x="6553080" y="4071960"/>
            <a:ext cx="1281240" cy="4237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角丸四角形 367"/>
          <p:cNvSpPr/>
          <p:nvPr/>
        </p:nvSpPr>
        <p:spPr>
          <a:xfrm>
            <a:off x="2209680" y="5286240"/>
            <a:ext cx="142884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角丸四角形 47"/>
          <p:cNvSpPr/>
          <p:nvPr/>
        </p:nvSpPr>
        <p:spPr>
          <a:xfrm>
            <a:off x="2286000" y="471492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角丸四角形 48"/>
          <p:cNvSpPr/>
          <p:nvPr/>
        </p:nvSpPr>
        <p:spPr>
          <a:xfrm>
            <a:off x="3571920" y="5119560"/>
            <a:ext cx="290520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コンテンツ プレースホルダ 2"/>
          <p:cNvSpPr/>
          <p:nvPr/>
        </p:nvSpPr>
        <p:spPr>
          <a:xfrm>
            <a:off x="585720" y="1676520"/>
            <a:ext cx="718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5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ＪＳＰゴシック"/>
              </a:rPr>
              <a:t>Similar results as in web 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5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ＪＳＰゴシック"/>
              </a:rPr>
              <a:t>EXP &amp; NEC are most fr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角丸四角形 52"/>
          <p:cNvSpPr/>
          <p:nvPr/>
        </p:nvSpPr>
        <p:spPr>
          <a:xfrm>
            <a:off x="928800" y="1886040"/>
            <a:ext cx="595080" cy="28584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角丸四角形 53"/>
          <p:cNvSpPr/>
          <p:nvPr/>
        </p:nvSpPr>
        <p:spPr>
          <a:xfrm>
            <a:off x="1676520" y="1852560"/>
            <a:ext cx="609480" cy="3571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ed collocations of adverbs &amp; modality forms (balanced corpu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p word sketches specif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haSen tagset is very narrow -&gt; very detailed results but “incomplete collocations”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2 gramrel -&gt; ~50 types of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valuation results very good, but as future tas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ru” verbs, compound nouns, corpus clean-up, double tagset, proficiency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Adverb-Modality distant col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b-corpus, retag, new gramre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n future more of this kind of info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eb corpus gives balanced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I., Hodošček B., Bekeš, A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Uebu ko-pasu to kensaku shisutemu wo riyou shita suiryou fukushi to modariti keishiki no enkaku kyouki chuushutsu to nihongo kyouiku he no ouyou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zen gengo shori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xtracting distant collocations of adverbs and modality forms using web corpus and query system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Natural Language Processing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16/4, 29-46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I., Bekeš, A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-pasu ni motozuita goi shirabasu sakusei ni mukete: suiryouteki fukushi to bunmatsu modariti no kyouki wo chuushin ni shite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go kyouiku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Towards corpus-based creation of lexical syllabus: collocations between suppositional adverbs and clause-final modality forms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Japanese Language Education)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42, 69-7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Erjavec. T, Kilgarriff, A. (2008) "A web corpus and word-sketches for Japanese"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zen gengo shori (Journal of Natural Language Processing)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/2, 137-159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Erjavec. T, Kilgarriff, A. (2008) "A web corpus and word-sketches for Japanese"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formation and Media Technologies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3, 2008, 529-551, reprinted from 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Natural Language Processing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/2, 137-15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8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-pasu kensaku tsu-ru Sketch Engine no nihongoban to sono riyou houhou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go kagaku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Sketch Engine corpus query tool for Japanese and its possible applications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ese Linguistics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3, 59-80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javec, T., Srdanović, I., Kilgarriff, A. (2007) A large public-access Japanese corpus and its query tool, CoJaS 2007, 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augural Workshop on Computational Japanese Studies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rch 15-16 2007, Ikaho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off, S. (2006) “Creating general-purpose corpora using automated search engine queries.” In WaCky! Working papers on the Web as Corpus. GEDIT, Bologn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off, S. (2006) “Open-source corpora: using the net to fish for linguistic data.” International Journal of Corpus Linguistics, 11 (4), pp. 435–462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Erjavec, T., Hmeljak, K. S., and Srdanovic, I. E. (2006) “jaSlo, A Japanese-Slovene Learners’ Dictionary: Methods for Dictionary Enhancement.” In </a:t>
            </a:r>
            <a:r>
              <a:rPr b="0" i="1" lang="ja-JP" sz="1300" spc="-1" strike="noStrike">
                <a:solidFill>
                  <a:srgbClr val="000000"/>
                </a:solidFill>
                <a:latin typeface="CMTI10"/>
                <a:ea typeface="Times New Roman"/>
              </a:rPr>
              <a:t>Proceedings of the 12th EURALEX International Congress </a:t>
            </a: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Turin, Italy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Baroni, M. and Bernardini, S. (2004) “BootCat: Bootstrapping corpora and terms from the web.” In </a:t>
            </a:r>
            <a:r>
              <a:rPr b="0" i="1" lang="ja-JP" sz="1300" spc="-1" strike="noStrike">
                <a:solidFill>
                  <a:srgbClr val="000000"/>
                </a:solidFill>
                <a:latin typeface="CMTI10"/>
                <a:ea typeface="Times New Roman"/>
              </a:rPr>
              <a:t>Proceedings of the Fourth Language Resources and Evaluation Conference, LREC2004 </a:t>
            </a: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Lisbon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Corpora used: thirteen Japanese corpora of various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tribution of adverbs in corpo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320" y="1371600"/>
          <a:ext cx="5867280" cy="52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586728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5"/>
          <p:cNvSpPr/>
          <p:nvPr/>
        </p:nvSpPr>
        <p:spPr>
          <a:xfrm>
            <a:off x="3357720" y="1441440"/>
            <a:ext cx="680760" cy="5257800"/>
          </a:xfrm>
          <a:prstGeom prst="rect">
            <a:avLst/>
          </a:prstGeom>
          <a:noFill/>
          <a:ln w="28440">
            <a:solidFill>
              <a:srgbClr val="55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066680" y="1441440"/>
            <a:ext cx="1500480" cy="52578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コンテンツ プレースホルダ 2"/>
          <p:cNvSpPr/>
          <p:nvPr/>
        </p:nvSpPr>
        <p:spPr>
          <a:xfrm>
            <a:off x="5791320" y="1857240"/>
            <a:ext cx="33526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entury Schoolbook"/>
                <a:ea typeface="ＪＳＰゴシック"/>
              </a:rPr>
              <a:t>Imbalaned distribution 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：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KokkenOW (white papers)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NLP articles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16K (natural science textbooks)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NUJCC (informal convers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entury Schoolbook"/>
                <a:ea typeface="ＪＳＰゴシック"/>
              </a:rPr>
              <a:t>Balanced distribution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：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JpWaC (large-scale web 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corpus),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KokkenBK (boo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Japanese corpus linguis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fo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ozora bunko (literal tex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ewspaper data (commercial 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arious corpora used inside an institu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rom 2005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-year project at National Institute for Japanese Language (Balanced Corpus of Japanese…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63b1"/>
                </a:solidFill>
                <a:latin typeface="Tahoma"/>
              </a:rPr>
              <a:t>-&gt;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2007, Web corpus into SkE (400 million toke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Steps for JpWaC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(Erjavec et al 20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L list of pages in Japane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d by S. Shar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les downloaded and cleaned with BootC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ootCat created by M. Baroni and others from the WaCky project, c.f. </a:t>
            </a:r>
            <a:r>
              <a:rPr b="0" lang="ja-JP" sz="2000" spc="-1" strike="noStrike" u="sng">
                <a:solidFill>
                  <a:srgbClr val="ff63b1"/>
                </a:solidFill>
                <a:uFillTx/>
                <a:latin typeface="Tahoma"/>
                <a:ea typeface="Arial Unicode MS"/>
                <a:hlinkClick r:id="rId1"/>
              </a:rPr>
              <a:t>http://wacky.sslmit.unibo.i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egmented, tokenised, tagged with Cha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y T. Erjavec, ChaSen available at </a:t>
            </a:r>
            <a:r>
              <a:rPr b="0" lang="ja-JP" sz="2000" spc="-1" strike="noStrike" u="sng">
                <a:solidFill>
                  <a:srgbClr val="ff63b1"/>
                </a:solidFill>
                <a:uFillTx/>
                <a:latin typeface="Tahoma"/>
                <a:ea typeface="Arial Unicode MS"/>
                <a:hlinkClick r:id="rId2"/>
              </a:rPr>
              <a:t>http://chasen.naist.jp/hiki/ChaSe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ranslated ChaSen tags to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y Srdanovic, also used in the jaSlo dictionary project (Hmeljak Sangawa et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verted to Sketch Engine format and loa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ChaSen morphological analyzer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8 t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tion of some POS categories is very detai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ffixes, prefixes inclu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4267080"/>
          <a:ext cx="2209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267080"/>
                    <a:ext cx="2209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09880" y="4572000"/>
            <a:ext cx="3657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shitsu (research l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ka (research de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in (research m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kai (socie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hi (research exp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sha (resear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Word sketch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611360"/>
          <a:ext cx="737388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11360"/>
                    <a:ext cx="737388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Gramrel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895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rdanovic et al 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 relations, mainly “dual”, one “symmetric”, one “unar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 not always b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lism is sequence based -&gt; mechanism of gaps   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0,5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CMSY10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905120"/>
          <a:ext cx="617220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61722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40F-4636-4AE9-B7E6-9B8F8B512CAE}" type="slidenum">
              <a:rPr b="0" lang="en-US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テキスト ボックス 7"/>
          <p:cNvGrpSpPr/>
          <p:nvPr/>
        </p:nvGrpSpPr>
        <p:grpSpPr>
          <a:xfrm>
            <a:off x="487440" y="1371600"/>
            <a:ext cx="2384280" cy="536400"/>
            <a:chOff x="487440" y="1371600"/>
            <a:chExt cx="2384280" cy="536400"/>
          </a:xfrm>
        </p:grpSpPr>
        <p:pic>
          <p:nvPicPr>
            <p:cNvPr id="132" name="テキスト ボックス 7" descr=""/>
            <p:cNvPicPr/>
            <p:nvPr/>
          </p:nvPicPr>
          <p:blipFill>
            <a:blip r:embed="rId1"/>
            <a:stretch/>
          </p:blipFill>
          <p:spPr>
            <a:xfrm>
              <a:off x="487440" y="1371600"/>
              <a:ext cx="2384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71680" y="1455840"/>
              <a:ext cx="22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Nou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Covered collocational relations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357280"/>
          <a:ext cx="7924680" cy="41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57280"/>
                    <a:ext cx="79246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05E2-74F9-4DD7-89BD-8B60FE37E478}" type="slidenum">
              <a:rPr b="0" lang="en-US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テキスト ボックス 5"/>
          <p:cNvGrpSpPr/>
          <p:nvPr/>
        </p:nvGrpSpPr>
        <p:grpSpPr>
          <a:xfrm>
            <a:off x="487440" y="1371600"/>
            <a:ext cx="1036440" cy="536400"/>
            <a:chOff x="487440" y="1371600"/>
            <a:chExt cx="1036440" cy="536400"/>
          </a:xfrm>
        </p:grpSpPr>
        <p:pic>
          <p:nvPicPr>
            <p:cNvPr id="139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487440" y="1371600"/>
              <a:ext cx="10364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23800" y="145584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Ver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vered collocational relations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2274840"/>
          <a:ext cx="8458200" cy="397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74840"/>
                    <a:ext cx="8458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11:45Z</dcterms:created>
  <dc:creator>Irena</dc:creator>
  <dc:description/>
  <dc:language>en-US</dc:language>
  <cp:lastModifiedBy>Irena</cp:lastModifiedBy>
  <dcterms:modified xsi:type="dcterms:W3CDTF">2010-02-10T07:44:47Z</dcterms:modified>
  <cp:revision>67</cp:revision>
  <dc:subject/>
  <dc:title>Japanese word sketches: towards a new version</dc:title>
</cp:coreProperties>
</file>